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5D85-B711-4FF7-A387-CA0ACE9D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9DF0-3842-4114-8223-2D136E23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23A1-25E5-41E2-B88C-6D02CF0F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FCAD-F0DE-49CE-9207-8763BBB11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D896-A14F-4778-ACD8-B250D8CD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3D77-7E76-47A1-A299-57CFF15F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92AE-8272-409E-AF57-4F1A9175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75E3-690D-4A17-A1DF-238EBC57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AD9A-714D-4264-AF7E-348F71DF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8355-BD84-4AFA-872A-234DE2DE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3554-B261-47BA-90ED-77E6A3CE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4F6D-F1FE-4CB6-839A-E1EA2853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76C0-AAF3-475D-8BCE-7C43C58A1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2285640"/>
            <a:ext cx="5790960" cy="2057400"/>
          </a:xfrm>
          <a:prstGeom prst="rect">
            <a:avLst/>
          </a:prstGeom>
          <a:solidFill>
            <a:srgbClr val="993300"/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Job Int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hat is the employer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looking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b skills and transferable/adaptable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end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am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tive Thinking and Problem S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izational Skills &amp; Leadership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cation/Customer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ility to continuously lea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losing the Int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ew your streng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k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all-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Object 4" descr=""/>
          <p:cNvPicPr/>
          <p:nvPr/>
        </p:nvPicPr>
        <p:blipFill>
          <a:blip r:embed="rId1"/>
          <a:stretch/>
        </p:blipFill>
        <p:spPr>
          <a:xfrm>
            <a:off x="5154480" y="1981080"/>
            <a:ext cx="2795760" cy="41148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00"/>
                </a:solidFill>
                <a:latin typeface="Times New Roman"/>
              </a:rPr>
              <a:t>Follow-u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Object 3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2187720" cy="41148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1640" y="1981080"/>
            <a:ext cx="3809880" cy="2743200"/>
          </a:xfrm>
          <a:prstGeom prst="rect">
            <a:avLst/>
          </a:prstGeom>
          <a:solidFill>
            <a:srgbClr val="993300"/>
          </a:solidFill>
          <a:ln w="76320">
            <a:solidFill>
              <a:srgbClr val="ffcc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nd a Thank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ll back in a few w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t a second int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on’t Give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3353040" cy="3429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takes time and persistence to reach your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ider every interview a learning experi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Object 4" descr=""/>
          <p:cNvPicPr/>
          <p:nvPr/>
        </p:nvPicPr>
        <p:blipFill>
          <a:blip r:embed="rId1"/>
          <a:stretch/>
        </p:blipFill>
        <p:spPr>
          <a:xfrm>
            <a:off x="4648320" y="2959200"/>
            <a:ext cx="3809880" cy="21589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Objectiv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 the concept &amp; purpose of the int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how to prepare for your int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strategies and techniques for a good int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Object 4" descr=""/>
          <p:cNvPicPr/>
          <p:nvPr/>
        </p:nvPicPr>
        <p:blipFill>
          <a:blip r:embed="rId1"/>
          <a:stretch/>
        </p:blipFill>
        <p:spPr>
          <a:xfrm>
            <a:off x="5334120" y="2576520"/>
            <a:ext cx="3276360" cy="29224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most important things you should do before your interview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Object 3" descr=""/>
          <p:cNvPicPr/>
          <p:nvPr/>
        </p:nvPicPr>
        <p:blipFill>
          <a:blip r:embed="rId1"/>
          <a:stretch/>
        </p:blipFill>
        <p:spPr>
          <a:xfrm>
            <a:off x="685800" y="2048040"/>
            <a:ext cx="3352680" cy="3981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7960" y="243828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.  PREPA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2.  PREPA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3.  PREPA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DEFINITION OF INTERVI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y face-to-face contact with anyone who has the authority to hire or supervise a person with your skills.  They may or may not have a job opening at the time you interview with th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Before the Int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earch the emplo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 out what the job responsibiliti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 out and record where, when, and with whom you will interview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pare a res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523880"/>
          </a:xfrm>
          <a:prstGeom prst="rect">
            <a:avLst/>
          </a:prstGeom>
          <a:solidFill>
            <a:srgbClr val="993300"/>
          </a:solidFill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spend time finding out about the employer/jo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24280" y="2514240"/>
            <a:ext cx="3810240" cy="3505320"/>
          </a:xfrm>
          <a:prstGeom prst="rect">
            <a:avLst/>
          </a:prstGeom>
          <a:solidFill>
            <a:srgbClr val="993300"/>
          </a:solidFill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goal is to show the employer why you are the best person for the 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e your strengths and experience to the 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ject 4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1913040" cy="41148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irst Im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2514600"/>
            <a:ext cx="3809880" cy="3276720"/>
          </a:xfrm>
          <a:prstGeom prst="rect">
            <a:avLst/>
          </a:prstGeom>
          <a:solidFill>
            <a:srgbClr val="993300"/>
          </a:solidFill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our Res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our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our Clothes &amp;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our Body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Object 4" descr=""/>
          <p:cNvPicPr/>
          <p:nvPr/>
        </p:nvPicPr>
        <p:blipFill>
          <a:blip r:embed="rId1"/>
          <a:stretch/>
        </p:blipFill>
        <p:spPr>
          <a:xfrm>
            <a:off x="4648320" y="2104920"/>
            <a:ext cx="3809880" cy="38671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ace to 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rty Dozen - Interview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say you can do the job - Prove It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Object 4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4540320" cy="28144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3300"/>
          </a:solidFill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ve You Can Do The Jo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3809880" cy="45720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mployers want concret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dentify your skills:  adaptive, transferable, and job-re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sent a good “stor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e data - numbers, volume, %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4280" y="1828800"/>
            <a:ext cx="3810240" cy="45720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mphasize results:  what happened as a result of your skills/effor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nk up what you’re good at to how you can help the employer out in this 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3T12:34:09Z</dcterms:created>
  <dc:creator/>
  <dc:description/>
  <dc:language>en-US</dc:language>
  <cp:lastModifiedBy>system8</cp:lastModifiedBy>
  <dcterms:modified xsi:type="dcterms:W3CDTF">2008-08-05T04:46:40Z</dcterms:modified>
  <cp:revision>0</cp:revision>
  <dc:subject/>
  <dc:title/>
</cp:coreProperties>
</file>